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  <p:custShowLst>
    <p:custShow name="(1.1)" id="0">
      <p:sldLst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2802-3C17-4010-B401-E614E10A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7BF5-5384-41EC-B0A7-AB849B46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68B4-A66F-452C-96D8-C99597B3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B4A3-1EE3-4183-A5E4-4D0EDC41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C140-0092-4ACA-A87D-1E78841D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36F6-909F-4DEE-B349-DAB66FF2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9B51-974B-4AB1-A62E-C547FAA4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5E8D-235A-46ED-83D0-32A5306C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A43E-BE32-4446-8926-4F9D1570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71CE-EE05-4E57-BE85-2AE77D88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2B84-0249-4063-99BB-0D83957B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96D5-DDAF-4021-9921-AC337D63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9CA6-D10A-4C78-867A-FB836770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F493-6AEE-4C72-85B8-A870930D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0E59-E0BD-4EDC-A8EB-27889B2C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DDDC-22DB-4824-8A43-C3828608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B74C-24F2-4E59-9F3D-CABB893E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0CE15-5810-4107-B65F-B5F85F6C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B7621-467E-4A00-B0AF-A7832EB4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F1CA4-8DE7-47D0-A6C6-F9FCF869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75A49-FF25-4CB2-AD89-06606953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75DE2-3329-48F4-980A-B5F1FDB0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2EFC-707B-4A70-8019-675E0EA7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FE982-0545-4E92-9825-29DF625D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952E6-5024-4B75-AD28-2417FB60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27706-CB87-490C-A202-6BB295B1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FAB1B-C1CB-4A01-9CE8-B229DA78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141E7-37A1-43A5-9059-3683C163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B7122-DA77-4442-81EA-0AAEA109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142B3-04E2-4934-8CF0-8BA47FBE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6CFCF-F454-4EF8-812A-A4D307D1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C8811-096B-42B4-9B34-D97D2662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7F1B2-94DE-4651-A454-5C869CC0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E390-6885-4D32-8B5E-06313BF3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5FEFD-1807-4F93-AC37-AF6DE18E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732C0-D7F4-4774-964E-8ABEC5F9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95EC3-940C-4B0F-9C33-5463F6C5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B070A-ACBD-4B57-87B6-241C6B1F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29059-86BB-4C7F-80F4-7433F88C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C2EAF-D9C9-4D1D-B350-F657D2C1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E4BAC-778D-41BA-B30C-773901CB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9AF84-9A90-46CC-AB0B-3534E69B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F6CD9-7B58-4428-940D-BA9C6587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E1ABE-47ED-48B3-8EA0-813514FA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C188-E30F-487C-AD17-B30C3CAC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71F97-42DE-45D6-9A1F-06B7D44C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3E939-5AAA-412B-977D-47F9B57E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7F556-2AEC-46E1-A438-1269627C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DAD8D-AD5E-4873-8BD5-B852C440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4A081-FCE9-41C8-8A5C-6ED0C9E4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B759B-7794-433A-B6A0-CAAED598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28576-05F0-4E0B-8FED-42567ABD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E2313-4F39-4212-BA22-CF15930E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87F12-6E6D-46F1-90DF-A14822EB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22A28-3ACB-4D91-A1FE-905561710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3DD4-CD6C-4514-B0CA-BF135D6B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EEF3D-517E-4F16-B89C-26679AF2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D84E3-7094-47B5-B277-4F801779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7F720-3235-43B7-9AD5-33578B81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8BFCE-4EB0-4B56-A933-217D6EC0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904E4-C36A-465D-88F6-758A57E2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19489-A14F-496A-BFB5-A23A5424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4EF35-63F0-4EE4-8B08-6479C5AF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7EA5F-CE15-4491-BF3B-3C254234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C83A5-C986-47BC-B2DB-96F293C6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0E7C9-4BD0-4F83-A2BA-55D6054D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2774-DCBE-48F3-A255-B129E926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4D90D-5BAB-4A19-8C33-B2D1D2FE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C4366-B6A4-407C-8B14-A0A60010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24958-B881-4046-9773-D15F0B5A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F1D81-AA47-4F59-8B19-6ADADD38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F38B2-6267-4F4A-8E9B-B5908337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8FEB5-EFBF-4C9A-8E10-74920F9F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11CCC-346F-44C8-8D9C-A37FB7C2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4C2AB-AA7C-4031-9536-2FF222CF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64030-C3EC-4A0D-B5D9-26D3026C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63841-857A-4A82-B4C0-F90D3860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4BA6-5ADA-4A04-AC1B-D530051B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220F0-CE29-442E-BB9A-EE32C89B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072AC-8AAA-4249-AF58-077AEB32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4569E-0EE2-43CB-B6A2-F8BC069B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32A9F-CD35-4EE4-994F-A35B69E2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7D0D1-D0D4-4140-8593-4E8537B0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3819-3CBE-40FF-993C-D2DD528C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E349-ABFF-482C-B7D7-CBE3AC56B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6AC8-ED0A-4CFB-99CB-A87AA7E41E8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1B1B-DAC3-4C2A-B820-24BDB163C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34C7-270A-4393-8045-FBF80E7318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0F2B-77B9-4736-AF92-EE261970C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9D05-E296-408B-97C3-5EEA80877B9B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FF8B-16FD-441C-B513-D8A994D1B6E7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3" descr=""/>
          <p:cNvPicPr/>
          <p:nvPr/>
        </p:nvPicPr>
        <p:blipFill>
          <a:blip r:embed="rId1"/>
          <a:stretch/>
        </p:blipFill>
        <p:spPr>
          <a:xfrm>
            <a:off x="1517760" y="4645080"/>
            <a:ext cx="6516720" cy="1841400"/>
          </a:xfrm>
          <a:prstGeom prst="rect">
            <a:avLst/>
          </a:prstGeom>
          <a:ln w="0">
            <a:noFill/>
          </a:ln>
        </p:spPr>
      </p:pic>
      <p:sp>
        <p:nvSpPr>
          <p:cNvPr id="302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76a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       </a:t>
            </a:r>
            <a:endParaRPr b="0" lang="en-US" sz="2400" spc="1" strike="noStrike">
              <a:ln w="0">
                <a:noFill/>
              </a:ln>
              <a:solidFill>
                <a:srgbClr val="0076a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,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largest lak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Lake Vic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,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animal has a screa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that  sounds like laughter?</a:t>
            </a:r>
            <a:r>
              <a:rPr b="1" lang="en-US" sz="4000" spc="-1" strike="noStrike">
                <a:solidFill>
                  <a:srgbClr val="ffffff"/>
                </a:solidFill>
                <a:latin typeface="Tempus Sans ITC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Hyen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,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hottest countr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Liby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,3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smallest trib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El Mo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,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How long is the coast lin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(in mile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18,950 miles lo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4,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3236"/>
              <a:gd name="adj2" fmla="val 1277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d0d0d"/>
                </a:solidFill>
                <a:latin typeface="Tempus Sans ITC"/>
              </a:rPr>
              <a:t>What animal has big feet, bu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empus Sans ITC"/>
              </a:rPr>
              <a:t>has only three toe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Rhi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4,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10666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second mos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populated count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Ethiop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4,3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AutoShape 6"/>
          <p:cNvSpPr/>
          <p:nvPr/>
        </p:nvSpPr>
        <p:spPr>
          <a:xfrm>
            <a:off x="990720" y="990720"/>
            <a:ext cx="7162560" cy="4038480"/>
          </a:xfrm>
          <a:prstGeom prst="wedgeRectCallout">
            <a:avLst>
              <a:gd name="adj1" fmla="val -21231"/>
              <a:gd name="adj2" fmla="val 10685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oldest trib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Bush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4,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How many different species o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 </a:t>
            </a: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animals are there in Afric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16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5,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AutoShape 6"/>
          <p:cNvSpPr/>
          <p:nvPr/>
        </p:nvSpPr>
        <p:spPr>
          <a:xfrm>
            <a:off x="11430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animal looks lik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It has a tear mark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on its fac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990720" y="3808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Cheeta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23"/>
          <p:cNvSpPr/>
          <p:nvPr/>
        </p:nvSpPr>
        <p:spPr>
          <a:xfrm>
            <a:off x="228600" y="152280"/>
            <a:ext cx="167652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African Anima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24"/>
          <p:cNvSpPr/>
          <p:nvPr/>
        </p:nvSpPr>
        <p:spPr>
          <a:xfrm>
            <a:off x="2286000" y="152280"/>
            <a:ext cx="175248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African 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25"/>
          <p:cNvSpPr/>
          <p:nvPr/>
        </p:nvSpPr>
        <p:spPr>
          <a:xfrm>
            <a:off x="4876920" y="152280"/>
            <a:ext cx="16002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African Trib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26"/>
          <p:cNvSpPr/>
          <p:nvPr/>
        </p:nvSpPr>
        <p:spPr>
          <a:xfrm>
            <a:off x="6934320" y="152280"/>
            <a:ext cx="175248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Other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 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41"/>
          <p:cNvSpPr/>
          <p:nvPr/>
        </p:nvSpPr>
        <p:spPr>
          <a:xfrm>
            <a:off x="1447920" y="129528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44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5,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fifth larges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country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Ch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5,3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largest trib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Su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5,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How big is Afric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(in Square mile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11.7 square m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ow 1, Col 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A horse like animal with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Strip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295280" y="228600"/>
            <a:ext cx="7086600" cy="45972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Ze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,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10666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2d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larges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countr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Sud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,3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AutoShape 6"/>
          <p:cNvSpPr/>
          <p:nvPr/>
        </p:nvSpPr>
        <p:spPr>
          <a:xfrm>
            <a:off x="838080" y="9907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empus Sans ITC"/>
              </a:rPr>
              <a:t>What tribe  is kn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empus Sans ITC"/>
              </a:rPr>
              <a:t> </a:t>
            </a:r>
            <a:r>
              <a:rPr b="0" lang="en-US" sz="4000" spc="-1" strike="noStrike">
                <a:solidFill>
                  <a:srgbClr val="0d0d0d"/>
                </a:solidFill>
                <a:latin typeface="Tempus Sans ITC"/>
              </a:rPr>
              <a:t>for their mask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Bob tri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,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longest river 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Afric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N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,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AutoShape 6"/>
          <p:cNvSpPr/>
          <p:nvPr/>
        </p:nvSpPr>
        <p:spPr>
          <a:xfrm>
            <a:off x="11430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animal has a big thic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man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1600200" y="13716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L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,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How many countries 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In Afric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empus Sans ITC"/>
              </a:rPr>
              <a:t>5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,3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How many tribes are in Afric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About  3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88303</cp:lastModifiedBy>
  <cp:lastPrinted>2001-01-31T16:21:13Z</cp:lastPrinted>
  <dcterms:modified xsi:type="dcterms:W3CDTF">2010-11-05T16:32:58Z</dcterms:modified>
  <cp:revision>90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